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1714-42F3-4DFD-9E5D-E529BA1DFB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Red Fern Grow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1 - Understanding Senten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may come in different fo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noun as the subject – Billy wants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uns as a subject – Little Ann and Old Dan are two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noun as the subject – He prays each night for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ronouns as the subject – He and she are both still awake because of the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hrase – Staying awake all night is no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ause – What makes me mad is all the noi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e gets the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ill buy coon hounds when he gets the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we know what’s going on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if the following are complete sentences or dependent cla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left my office that beautiful spring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as walking along whistling when I heard the dogf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wenty-five feet from me they caught him and down he w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on my kn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final whi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lley emptied into the street, he stopped and look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watch him disappear in the twilight sha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ever it was that had interrupted his life, he was trying to straighten it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turned to enter my 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caressed the smooth surfaces, my mind drifted back through the years, back to my boyhood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 echoed in Billy’s mind even after the night quie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there’s some action! It makes a very clear, complete sentenc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which part of the sentence (subject or predicate) is missing in the sentence fragments be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bucketful of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dog-wan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wling and yelling for Ma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a talk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build a few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Bi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, young Billy was a nervous wre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at Sam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, our cat Samie scooted under the ba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you tell a complete sentence from an incomplete sentence? Usually you tell just by liste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hat? Who does what everyday? I don’t get it. This is not complet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of the f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, the glow of the fire grew lar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kled like a white star in the heav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, the smaller cup sparkled like a white star in the heav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ideo on Sentence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brainpop.com/english/grammar/sentencefragment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Complete Sentence or Sentence Frag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found some slick little trails out in the garden down under some tall hollyhoc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I decided to make friends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ing they were game tra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a had another talk with Pa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your Student Packet and complete Lesson 1 Practice for Engl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don’t care about the weather! Tell me who is doing wha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is a very simple sentence, but it has a subject [Billy] and a verb [hunts]. We know what happened and who did i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a little more information. There’s no confusion her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even more information, and it’s still very clea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lete sentence must have a subject and a predicate. The subject tells who or what does the action, and the predicate contains the verb and tells what the ac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is a word that expresses one of two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:  jump, scream, fly, r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of being:  appear, seem, f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ject can be any of the following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who does the action in the sentence. Grandpa sells goods in his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that does the action in the sentence. The general store swarms with people before the Fourth of July celeb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that does the action in the sentence. Flour and sugar are mixed together to make cook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described in the sentence. Grandpa is happy when he makes a good s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being described in the sentence. The general store is crowded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being described in the sentence. Cookies are best when the flour and sugar are fre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6984-5A2F-4A7E-AD24-1E66252D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3776-9FCA-4C68-9790-D004EA82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706D5-FE7C-45C1-8FE5-A3793782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E637-8740-4755-97F8-F10A2790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7ED0-6365-440F-829E-1B599F8A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9F59-17E3-46BF-ABAC-2AB7FE5B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664A-5292-4A37-9BB4-D904A574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32C6-1BF4-4EAA-8BC7-018002E1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60E0-828C-4016-A588-F4728CF2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FD6E-42BD-4A07-B9E7-4F5D5281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EF5F-7370-44DC-B70C-8A6D878D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1E1F-A39A-4E86-B611-0346F9FE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FD04-65F3-4134-B2CA-0A4FA308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AE4C-F6BD-4931-97B0-D1767294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27F9-7B8D-41E3-B4DE-5391E88E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5D4D-1E8C-4ED4-A6D1-AA1E66D8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C35C-FDF8-4DE0-8CE4-7B8C8CA1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1FA8-99EA-48C8-8ED8-48768861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D6FF2-4A57-4075-BA4F-720676F2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C8F2-2E03-4BA2-948B-73519250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2FDC-C13F-4957-88AF-47738FFE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8A56A-2A19-4281-AFB9-B2E78CA0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43A0-16AC-436D-BBAF-EF84F59B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8052-58B1-4A63-BFA4-AB54C3FA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56A4-BF89-4F37-B6AC-3E6A5E476B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8BFE-263A-4C4B-B1C4-21DD4A5B9D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entencefragment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ere the Red Fern Grows 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sson 1 - Understanding Sentence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jects may come in different for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l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ants hound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nouns as a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ttle Ann and Old D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two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pro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ys each night for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pronouns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 and 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both still awake because of the coon hou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hra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aying awake all nig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no f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lau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hat makes me ma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ll the nois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u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he gets the mon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will buy coon hounds when he gets the mon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we know what’s going on!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termine if the following are complete sentences or dependent clauses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I left my office that beautiful spring 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as walking along whistling when I heard the dogfigh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ut twenty-five feet from me they caught him and down he w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wn on my kne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final whimp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the alley emptied into the street, he stopped and looked ba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watch him disappear in the twilight shadow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ever it was that had interrupted his life, he was trying to straighten it 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turned to enter my ya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caressed the smooth surfaces, my mind drifted back through the years, back to my boyhood day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 echoed in Billy’s mind even after the night quie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there’s some action! It makes a very clear, complete sentenc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ll which part of the sentence (subject or predicate) is missing in the sentence fragments below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whole bucketful of tea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dog-want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wling and yelling for Mam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d a talk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Let’s build a few sentenc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ng Bi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, young Billy was a nervous wre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r cat Sam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, our cat Samie scooted under the ba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an you tell a complete sentence from an incomplete sentence? Usually you tell just by listen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da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hat? Who does what everyday? I don’t get it. This is not complet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low of the 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, the glow of the fire grew larg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arkled like a white star in the heav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, the smaller cup sparkled like a white star in the heav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 on Sentence Frag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sentence_fragments.asf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ain P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brainpop.com/english/grammar/sentencefragments/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– Complete Sentence or Sentence Fragmen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found some slick little trails out in the garden down under some tall hollyh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ce I decided to make friends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king they were game trail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ma had another talk with Pap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o to your Student Packet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nd complete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Lesson 1 Practice for English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 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I don’t care about the weather! Tell me who is doing wha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is a very simple sentence, but it has a subject [Billy] and a verb [hunts]. We know what happened and who did i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a little more information. There’s no confusion her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even more information, and it’s still very clear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plete sentence must have a subject and a predicate. The subject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es the action, and the predicate contains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action 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verb is a word that expresses one of two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on:  jump, scream, fly, r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e of being:  appear, seem, fe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ubject can be any of the following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who does the action in the sentence. Grandpa sells goods in his general st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that does the action in the sentence. The general store swarms with people before the Fourth of July celebr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that does the action in the sentence. Flour and sugar are mixed together to make cook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described in the sentence. Grandpa is happy when he makes a good se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being described in the sentence. The general store is crowded on Satur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being described in the sentence. Cookies are best when the flour and sugar are fres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21:36:30Z</dcterms:created>
  <dc:creator>Gay  Miller</dc:creator>
  <dc:description/>
  <dc:language>en-US</dc:language>
  <cp:lastModifiedBy>RomaK</cp:lastModifiedBy>
  <dcterms:modified xsi:type="dcterms:W3CDTF">2015-09-02T09:38:10Z</dcterms:modified>
  <cp:revision>29</cp:revision>
  <dc:subject/>
  <dc:title>Where the Red Fern Grows</dc:title>
</cp:coreProperties>
</file>